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15.png" ContentType="image/png"/>
  <Override PartName="/ppt/media/image16.wmf" ContentType="image/x-wmf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25F1A-37C5-4143-B084-819B37DF296A}" type="datetime">
              <a:rPr b="0" lang="en-US" sz="13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6840" rIns="96840" tIns="48240" bIns="48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E223B-3A0E-426B-8A73-67D71D78F5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915FE-787B-434E-B5C4-056D4EA5B1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84CF1-1068-4BFB-B1FE-E8E1121D8D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041C7-7424-4069-955F-69874EF538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E1EAD-A24C-4DED-922E-298DAE14C6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DA4FD-EF05-45F7-9910-F89CD38FBC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94419-710C-438C-9279-2E3762D972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5571B-F5C2-4494-865A-441D6C9C8A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1E8BE-0D1F-4F5E-B111-3E103FFB38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79825-39FE-45D9-A452-924F897A83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A4DC9-B3C5-479A-8FAD-8E1DE01D36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OWAS Coastal and Marine Resources Management Cent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6C774-D333-43AB-9D2A-EC41208CC9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79B1-B331-4AF0-BFA9-1876F61D5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D8F5-DE69-435E-8831-B4ABFC6EF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892E-2564-40F9-91DC-6CBEE409A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D864-1A76-4BCE-A2FD-2F4478BAB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4C41-750F-4743-A7FA-8C13C8FA6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5271-66E0-4735-A24F-84FD144F3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9068-5DFC-4CF2-A894-BAB1800C6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35F8-CD6C-4C1A-A7C1-B9D5327EA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8F51-AE6F-4C6C-8751-43F4B1E95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E22B-BAFF-4666-93BB-31CBF0C1B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62AD-FD94-4E21-848A-A38880846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BBBA-BA2B-4FD1-B65F-280783E7A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E83C0-65A5-4447-933A-AD5AF643444D}" type="slidenum">
              <a:rPr b="0" lang="en-US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tp://podaac-ftp.jpl.nasa.gov/allData/" TargetMode="External"/><Relationship Id="rId2" Type="http://schemas.openxmlformats.org/officeDocument/2006/relationships/hyperlink" Target="http://www.ncdc.noaa.gov/data-access/satellite-data/satellite-data-access-datasets" TargetMode="External"/><Relationship Id="rId3" Type="http://schemas.openxmlformats.org/officeDocument/2006/relationships/hyperlink" Target="http://marine.copernicus.eu/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167040" y="228240"/>
            <a:ext cx="944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ill Sans MT"/>
              </a:rPr>
              <a:t>Satellite Oceanography Lab</a:t>
            </a:r>
            <a:br>
              <a:rPr sz="3400"/>
            </a:b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9" name="Picture 4" descr="TitleImage"/>
          <p:cNvPicPr/>
          <p:nvPr/>
        </p:nvPicPr>
        <p:blipFill>
          <a:blip r:embed="rId1"/>
          <a:stretch/>
        </p:blipFill>
        <p:spPr>
          <a:xfrm>
            <a:off x="457200" y="3562200"/>
            <a:ext cx="8416800" cy="25322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2"/>
          <p:cNvSpPr/>
          <p:nvPr/>
        </p:nvSpPr>
        <p:spPr>
          <a:xfrm>
            <a:off x="233280" y="6140520"/>
            <a:ext cx="915372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UG-DMFS Summer School (July 30-August 3, 201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"/>
          <p:cNvSpPr/>
          <p:nvPr/>
        </p:nvSpPr>
        <p:spPr>
          <a:xfrm>
            <a:off x="-55440" y="1981080"/>
            <a:ext cx="9442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Ebenezer Nyadj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US Naval Research Lab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University of New Orle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2"/>
          <p:cNvSpPr/>
          <p:nvPr/>
        </p:nvSpPr>
        <p:spPr>
          <a:xfrm>
            <a:off x="2411280" y="20520"/>
            <a:ext cx="4267440" cy="1054440"/>
          </a:xfrm>
          <a:prstGeom prst="rect">
            <a:avLst/>
          </a:prstGeom>
          <a:solidFill>
            <a:srgbClr val="dbef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atellite Data Proces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http://www.eorc.jaxa.jp/en/about/distribution/info/img/trmm_datatransfer.jpg"/>
          <p:cNvPicPr/>
          <p:nvPr/>
        </p:nvPicPr>
        <p:blipFill>
          <a:blip r:embed="rId1"/>
          <a:stretch/>
        </p:blipFill>
        <p:spPr>
          <a:xfrm>
            <a:off x="1143000" y="709560"/>
            <a:ext cx="6640560" cy="6148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0" name="Slide Number Placeholder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FBE88-4962-4AC0-9F13-D31EA953FF9E}" type="slidenum">
              <a:rPr b="0" lang="en-US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2"/>
          <p:cNvSpPr/>
          <p:nvPr/>
        </p:nvSpPr>
        <p:spPr>
          <a:xfrm>
            <a:off x="2411280" y="20520"/>
            <a:ext cx="4267440" cy="1054440"/>
          </a:xfrm>
          <a:prstGeom prst="rect">
            <a:avLst/>
          </a:prstGeom>
          <a:solidFill>
            <a:srgbClr val="dbef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atellite Data Proces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49320" y="676440"/>
            <a:ext cx="4560840" cy="7209000"/>
          </a:xfrm>
          <a:prstGeom prst="rect">
            <a:avLst/>
          </a:prstGeom>
          <a:solidFill>
            <a:srgbClr val="dbef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39600" bIns="396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omputer programing software: Matlab, Python, Ocean Data View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pecialized data softwar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-- NASA’s SeaD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ocean col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-- ESA’s BEAM – oce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olor, SAR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-- UNESCO’s Bilko -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ocean color, S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-- ENVI, ERDAS, IDR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Bilko screenshot"/>
          <p:cNvPicPr/>
          <p:nvPr/>
        </p:nvPicPr>
        <p:blipFill>
          <a:blip r:embed="rId1"/>
          <a:stretch/>
        </p:blipFill>
        <p:spPr>
          <a:xfrm>
            <a:off x="5029200" y="4873680"/>
            <a:ext cx="2666880" cy="190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4" name="Picture 6" descr="SeaDAS Screen Shot"/>
          <p:cNvPicPr/>
          <p:nvPr/>
        </p:nvPicPr>
        <p:blipFill>
          <a:blip r:embed="rId2"/>
          <a:stretch/>
        </p:blipFill>
        <p:spPr>
          <a:xfrm>
            <a:off x="5486400" y="3143160"/>
            <a:ext cx="3225960" cy="1657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5" name="Picture 10" descr="http://www.mathworks.com/cmsimages/69791_wl_MATLAB_fig4_wl.jpg"/>
          <p:cNvPicPr/>
          <p:nvPr/>
        </p:nvPicPr>
        <p:blipFill>
          <a:blip r:embed="rId3"/>
          <a:stretch/>
        </p:blipFill>
        <p:spPr>
          <a:xfrm>
            <a:off x="4876920" y="652320"/>
            <a:ext cx="2971800" cy="2424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6" name="Slide Number Placeholder 6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06F71-90D4-4188-AAF5-E4E11C1C0388}" type="slidenum">
              <a:rPr b="0" lang="en-US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793800" y="76320"/>
            <a:ext cx="7545240" cy="1054440"/>
          </a:xfrm>
          <a:prstGeom prst="rect">
            <a:avLst/>
          </a:prstGeom>
          <a:solidFill>
            <a:srgbClr val="dbef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Remote sensing of the sea: Data u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49320" y="762120"/>
            <a:ext cx="9034200" cy="5928840"/>
          </a:xfrm>
          <a:prstGeom prst="rect">
            <a:avLst/>
          </a:prstGeom>
          <a:solidFill>
            <a:srgbClr val="dbef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1. Sensor calib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2. Atmospheric corr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3. Positional regis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4. Oceanographic sampling for “sea truth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5. Image proces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6. Oceanographic applications of satelli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Remote sen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" descr=""/>
          <p:cNvPicPr/>
          <p:nvPr/>
        </p:nvPicPr>
        <p:blipFill>
          <a:blip r:embed="rId1"/>
          <a:stretch/>
        </p:blipFill>
        <p:spPr>
          <a:xfrm>
            <a:off x="4495680" y="838080"/>
            <a:ext cx="1933560" cy="19036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90" name="Picture 2" descr="http://www.argo.ucsd.edu/operation_park_profile.jpg"/>
          <p:cNvPicPr/>
          <p:nvPr/>
        </p:nvPicPr>
        <p:blipFill>
          <a:blip r:embed="rId2"/>
          <a:stretch/>
        </p:blipFill>
        <p:spPr>
          <a:xfrm>
            <a:off x="6473880" y="1295280"/>
            <a:ext cx="2566800" cy="19256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91" name="Picture 4" descr="http://www.pmel.noaa.gov/co2/files/taobuoycropped_med.jpg"/>
          <p:cNvPicPr/>
          <p:nvPr/>
        </p:nvPicPr>
        <p:blipFill>
          <a:blip r:embed="rId3"/>
          <a:stretch/>
        </p:blipFill>
        <p:spPr>
          <a:xfrm>
            <a:off x="7043760" y="3333600"/>
            <a:ext cx="1996920" cy="33051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92" name="Slide Number Placeholder 1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D5EB8-6236-497E-9450-7FF8772B111A}" type="slidenum">
              <a:rPr b="0" lang="en-US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Date Placeholder 2"/>
          <p:cNvSpPr/>
          <p:nvPr/>
        </p:nvSpPr>
        <p:spPr>
          <a:xfrm>
            <a:off x="6285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Major image processing software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90560"/>
            <a:ext cx="8229600" cy="39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152280" indent="-1522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VI/IDL: http://www.rsinc.com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52280" indent="-1522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RDAS Imagine: http://www.gis.leica-geosystems.com/Products/Imagin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52280" indent="-1522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CI Geomatics: http://www.pci.on.ca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52280" indent="-1522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R Mapper: http://www.ermapper.com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52280" indent="-1522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EGRAPH: http://imgs.intergraph.com/gimage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52280" indent="-1522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DRIS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52280" indent="-1522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cognition: http://www.definiens-imaging.com/ecognition/pro/40.ht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52280" indent="-1522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tla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52280" indent="-1522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yth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28560" y="1825200"/>
            <a:ext cx="7886880" cy="4351320"/>
          </a:xfrm>
          <a:prstGeom prst="rect">
            <a:avLst/>
          </a:prstGeom>
          <a:ln w="0">
            <a:noFill/>
          </a:ln>
        </p:spPr>
      </p:pic>
      <p:sp>
        <p:nvSpPr>
          <p:cNvPr id="98" name="Date Placeholder 3"/>
          <p:cNvSpPr/>
          <p:nvPr/>
        </p:nvSpPr>
        <p:spPr>
          <a:xfrm>
            <a:off x="6285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lide Number Placeholder 4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91C30-77D9-41E4-AF02-A3EB28076E78}" type="slidenum">
              <a:rPr b="0" lang="en-US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Date Placeholder 3"/>
          <p:cNvSpPr/>
          <p:nvPr/>
        </p:nvSpPr>
        <p:spPr>
          <a:xfrm>
            <a:off x="6285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lide Number Placeholder 4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8BC1E-2D6D-41E6-8F3C-EF16270F2DB8}" type="slidenum">
              <a:rPr b="0" lang="en-US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"/>
          <p:cNvPicPr/>
          <p:nvPr/>
        </p:nvPicPr>
        <p:blipFill>
          <a:blip r:embed="rId1"/>
          <a:stretch/>
        </p:blipFill>
        <p:spPr>
          <a:xfrm>
            <a:off x="61920" y="203040"/>
            <a:ext cx="9012240" cy="63770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3"/>
          <p:cNvSpPr/>
          <p:nvPr/>
        </p:nvSpPr>
        <p:spPr>
          <a:xfrm>
            <a:off x="533520" y="971640"/>
            <a:ext cx="84675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49100"/>
                </a:solidFill>
                <a:uFillTx/>
                <a:latin typeface="Arial"/>
                <a:hlinkClick r:id="rId1"/>
              </a:rPr>
              <a:t>ftp://podaac-ftp.jpl.nasa.gov/allData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aviso.altimetry.fr/en/data/data-acces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A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49100"/>
                </a:solidFill>
                <a:uFillTx/>
                <a:latin typeface="Arial"/>
                <a:hlinkClick r:id="rId2"/>
              </a:rPr>
              <a:t>http://www.ncdc.noaa.gov/data-access/satellite-data/satellite-data-access-datas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49100"/>
                </a:solidFill>
                <a:uFillTx/>
                <a:latin typeface="Arial"/>
                <a:hlinkClick r:id="rId3"/>
              </a:rPr>
              <a:t>http://marine.copernicus.eu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RE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z.ifremer.fr/institut_eng/Marine-science/French-facilities/Data-Centres/Coriol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3"/>
          <p:cNvSpPr/>
          <p:nvPr/>
        </p:nvSpPr>
        <p:spPr>
          <a:xfrm>
            <a:off x="533520" y="971640"/>
            <a:ext cx="84675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N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sansa.org.za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ug-mesa.or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Universities and La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University of Hawa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apdrc.soest.hawaii.edu/data/data.ph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3352680" y="41400"/>
            <a:ext cx="2438640" cy="1054440"/>
          </a:xfrm>
          <a:prstGeom prst="rect">
            <a:avLst/>
          </a:prstGeom>
          <a:solidFill>
            <a:srgbClr val="dbef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Data 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20520" y="568440"/>
            <a:ext cx="9047160" cy="1846440"/>
          </a:xfrm>
          <a:prstGeom prst="rect">
            <a:avLst/>
          </a:prstGeom>
          <a:solidFill>
            <a:srgbClr val="dbef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39600" bIns="396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ational institutions that manage satellit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--- National Aeronautics and Space Administration (NASA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rcRect l="9084" t="11988" r="16856" b="5556"/>
          <a:stretch/>
        </p:blipFill>
        <p:spPr>
          <a:xfrm>
            <a:off x="720720" y="1930320"/>
            <a:ext cx="7772400" cy="4865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7" name="Slide Number Placeholder 6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9D0DA-950B-4549-917E-A5491A432012}" type="slidenum">
              <a:rPr b="0" lang="en-US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3352680" y="41400"/>
            <a:ext cx="2438640" cy="1054440"/>
          </a:xfrm>
          <a:prstGeom prst="rect">
            <a:avLst/>
          </a:prstGeom>
          <a:solidFill>
            <a:srgbClr val="dbef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Data 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20520" y="568440"/>
            <a:ext cx="9047160" cy="1846440"/>
          </a:xfrm>
          <a:prstGeom prst="rect">
            <a:avLst/>
          </a:prstGeom>
          <a:solidFill>
            <a:srgbClr val="dbef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39600" bIns="396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ational institutions that manage satellit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--- National Oceanic and Atmospheric Administration (NOAA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" descr=""/>
          <p:cNvPicPr/>
          <p:nvPr/>
        </p:nvPicPr>
        <p:blipFill>
          <a:blip r:embed="rId1"/>
          <a:srcRect l="9497" t="1670" r="10506" b="5486"/>
          <a:stretch/>
        </p:blipFill>
        <p:spPr>
          <a:xfrm>
            <a:off x="55440" y="1960560"/>
            <a:ext cx="5105520" cy="4718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1" name="Picture 4" descr=""/>
          <p:cNvPicPr/>
          <p:nvPr/>
        </p:nvPicPr>
        <p:blipFill>
          <a:blip r:embed="rId2"/>
          <a:stretch/>
        </p:blipFill>
        <p:spPr>
          <a:xfrm>
            <a:off x="4583160" y="3276720"/>
            <a:ext cx="4484520" cy="2757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2" name="Slide Number Placeholder 6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C1213-C599-42FC-A76B-147770E33A3F}" type="slidenum">
              <a:rPr b="0" lang="en-US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3352680" y="41400"/>
            <a:ext cx="2438640" cy="1054440"/>
          </a:xfrm>
          <a:prstGeom prst="rect">
            <a:avLst/>
          </a:prstGeom>
          <a:solidFill>
            <a:srgbClr val="dbef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Data 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20520" y="568440"/>
            <a:ext cx="9047160" cy="1450440"/>
          </a:xfrm>
          <a:prstGeom prst="rect">
            <a:avLst/>
          </a:prstGeom>
          <a:solidFill>
            <a:srgbClr val="dbef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39600" bIns="396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ational institutions that manage satellit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--- European Space Agency (ESA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3" descr=""/>
          <p:cNvPicPr/>
          <p:nvPr/>
        </p:nvPicPr>
        <p:blipFill>
          <a:blip r:embed="rId1"/>
          <a:srcRect l="11482" t="0" r="18163" b="15439"/>
          <a:stretch/>
        </p:blipFill>
        <p:spPr>
          <a:xfrm>
            <a:off x="1523880" y="1932120"/>
            <a:ext cx="5838840" cy="4846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6" name="Slide Number Placeholder 6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45AE3-F59E-4F69-8F3E-5C4DADB66812}" type="slidenum">
              <a:rPr b="0" lang="en-US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2"/>
          <p:cNvSpPr/>
          <p:nvPr/>
        </p:nvSpPr>
        <p:spPr>
          <a:xfrm>
            <a:off x="3352680" y="41400"/>
            <a:ext cx="2438640" cy="1054440"/>
          </a:xfrm>
          <a:prstGeom prst="rect">
            <a:avLst/>
          </a:prstGeom>
          <a:solidFill>
            <a:srgbClr val="dbef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Data 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4"/>
          <p:cNvSpPr/>
          <p:nvPr/>
        </p:nvSpPr>
        <p:spPr>
          <a:xfrm>
            <a:off x="20520" y="568440"/>
            <a:ext cx="9047160" cy="1450440"/>
          </a:xfrm>
          <a:prstGeom prst="rect">
            <a:avLst/>
          </a:prstGeom>
          <a:solidFill>
            <a:srgbClr val="dbef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39600" bIns="396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ational institutions that manage satellit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--- South African Space Agency (SANSA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" descr=""/>
          <p:cNvPicPr/>
          <p:nvPr/>
        </p:nvPicPr>
        <p:blipFill>
          <a:blip r:embed="rId1"/>
          <a:srcRect l="3812" t="0" r="7048" b="0"/>
          <a:stretch/>
        </p:blipFill>
        <p:spPr>
          <a:xfrm>
            <a:off x="492120" y="1716120"/>
            <a:ext cx="7966080" cy="5089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0" name="Slide Number Placeholder 6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C3ABF-BA9F-4A8B-AAEA-61986C129500}" type="slidenum">
              <a:rPr b="0" lang="en-US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2"/>
          <p:cNvSpPr/>
          <p:nvPr/>
        </p:nvSpPr>
        <p:spPr>
          <a:xfrm>
            <a:off x="3352680" y="41400"/>
            <a:ext cx="2438640" cy="1054440"/>
          </a:xfrm>
          <a:prstGeom prst="rect">
            <a:avLst/>
          </a:prstGeom>
          <a:solidFill>
            <a:srgbClr val="dbef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Data 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4"/>
          <p:cNvSpPr/>
          <p:nvPr/>
        </p:nvSpPr>
        <p:spPr>
          <a:xfrm>
            <a:off x="20520" y="568440"/>
            <a:ext cx="9047160" cy="1846440"/>
          </a:xfrm>
          <a:prstGeom prst="rect">
            <a:avLst/>
          </a:prstGeom>
          <a:solidFill>
            <a:srgbClr val="dbef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39600" bIns="396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ational institutions that manage satellit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--- Monitoring for Environment and Security for Africa (MESA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"/>
          <p:cNvPicPr/>
          <p:nvPr/>
        </p:nvPicPr>
        <p:blipFill>
          <a:blip r:embed="rId1"/>
          <a:srcRect l="0" t="0" r="0" b="13397"/>
          <a:stretch/>
        </p:blipFill>
        <p:spPr>
          <a:xfrm>
            <a:off x="385920" y="1735200"/>
            <a:ext cx="8372160" cy="5025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4" name="Slide Number Placeholder 6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879A1-8410-44AE-BCE1-7DA9CBA94F71}" type="slidenum">
              <a:rPr b="0" lang="en-US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2"/>
          <p:cNvSpPr/>
          <p:nvPr/>
        </p:nvSpPr>
        <p:spPr>
          <a:xfrm>
            <a:off x="2411280" y="20520"/>
            <a:ext cx="4267440" cy="1054440"/>
          </a:xfrm>
          <a:prstGeom prst="rect">
            <a:avLst/>
          </a:prstGeom>
          <a:solidFill>
            <a:srgbClr val="dbef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atellite Data Proces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"/>
          <p:cNvSpPr/>
          <p:nvPr/>
        </p:nvSpPr>
        <p:spPr>
          <a:xfrm>
            <a:off x="49320" y="706320"/>
            <a:ext cx="9034200" cy="7206840"/>
          </a:xfrm>
          <a:prstGeom prst="rect">
            <a:avLst/>
          </a:prstGeom>
          <a:solidFill>
            <a:srgbClr val="dbeff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Gill Sans MT"/>
              </a:rPr>
              <a:t>Levels of data processing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Level 0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–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Raw data received from satellite, in standard binary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     form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Level 1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–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mage data in sensor coordinates, contain individual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     calibrated channels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Level 2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–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Derived oceanic variable, atmospherically corrected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     and geolocated, but presented in sensor coordinates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Level 3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–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omposite images of derived ocean variable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     resampled onto standard map base and averaged over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     a certain time period (may contain gaps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Level 4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–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mage representing an ocean variable averaged within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     each grid cell as a result of data analysis, e.g., modelin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lide Number Placeholder 6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886C3-B094-4298-937E-CA97F3896E8D}" type="slidenum">
              <a:rPr b="0" lang="en-US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0T17:43:02Z</dcterms:created>
  <dc:creator>Office 2004 Test Drive User</dc:creator>
  <dc:description/>
  <dc:language>en-US</dc:language>
  <cp:lastModifiedBy>ebenezer nyadjro</cp:lastModifiedBy>
  <cp:lastPrinted>2015-08-17T22:51:01Z</cp:lastPrinted>
  <dcterms:modified xsi:type="dcterms:W3CDTF">2018-07-23T20:52:29Z</dcterms:modified>
  <cp:revision>442</cp:revision>
  <dc:subject/>
  <dc:title>MSCI/GEOL 579 Air-Sea Interatction</dc:title>
</cp:coreProperties>
</file>