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5.png" ContentType="image/png"/>
  <Override PartName="/ppt/media/image16.wmf" ContentType="image/x-wmf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AA3E-B476-47D3-B2A3-FDD1E23FF4D2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4EB5-D23C-432A-B96A-3357CBAB9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1242-EF10-4CF3-8379-0500BF0F2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98F9-60E1-400B-8907-EE8D9855A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089B-0F2B-4594-BE07-341316133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FE89-ED87-4F43-A52A-4C0D854A53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B2097-7B0E-4F32-A329-C47DA607A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3595-5F13-4F98-B7B8-286CB3D27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4ADE-DDF5-44DF-81DD-0566033F2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948C-0FD8-4193-B069-C218E0470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71281-D0BB-44F1-8C40-A536F84F6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A53A1-0925-4031-8414-DE9693F6D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WAS Coastal and Marine Resources Management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8548A-945F-4C57-A0EA-3CDAF4AA2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8B36-0EBB-48F0-B05A-FDA2806BD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2A8-4032-4BA5-9D3F-3347AF27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D392-66BC-497A-B8FC-5B4DD5B2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FDE-BA24-4BF8-A03B-71B9DE06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2599-7526-4C1A-9A61-D3038E1D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FCD7-0055-45CE-8F77-62C0117B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62FF-316D-4662-BD0F-A04F77A67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26C-8A82-43AA-83D7-9FB79F35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CFA-A86A-4B6B-8C42-30CB98CE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A220-1A29-4BEA-BE2A-937B5F96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2F73-820F-4BCB-BC30-9EF231D0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B383-B6A0-48A9-A577-9735B1C1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9187-69AC-4733-AC2D-3B923150EEF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tp://podaac-ftp.jpl.nasa.gov/allData/" TargetMode="External"/><Relationship Id="rId2" Type="http://schemas.openxmlformats.org/officeDocument/2006/relationships/hyperlink" Target="http://www.ncdc.noaa.gov/data-access/satellite-data/satellite-data-access-datasets" TargetMode="External"/><Relationship Id="rId3" Type="http://schemas.openxmlformats.org/officeDocument/2006/relationships/hyperlink" Target="http://marine.copernicus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67040" y="228240"/>
            <a:ext cx="944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Satellite Oceanography Lab</a:t>
            </a:r>
            <a:br>
              <a:rPr sz="34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Picture 4" descr="TitleImage"/>
          <p:cNvPicPr/>
          <p:nvPr/>
        </p:nvPicPr>
        <p:blipFill>
          <a:blip r:embed="rId1"/>
          <a:stretch/>
        </p:blipFill>
        <p:spPr>
          <a:xfrm>
            <a:off x="457200" y="3562200"/>
            <a:ext cx="8416800" cy="2532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-55440" y="1981080"/>
            <a:ext cx="944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benezer Nyadj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S Naval Research Lab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niversity of New Orl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1400" y="6140520"/>
            <a:ext cx="9039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MU Summer School (August 5-10, 201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411280" y="20520"/>
            <a:ext cx="42674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tellite Dat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eorc.jaxa.jp/en/about/distribution/info/img/trmm_datatransfer.jpg"/>
          <p:cNvPicPr/>
          <p:nvPr/>
        </p:nvPicPr>
        <p:blipFill>
          <a:blip r:embed="rId1"/>
          <a:stretch/>
        </p:blipFill>
        <p:spPr>
          <a:xfrm>
            <a:off x="1143000" y="709560"/>
            <a:ext cx="6640560" cy="614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493F1-31A2-4962-B721-19D8539FCB57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411280" y="20520"/>
            <a:ext cx="42674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tellite Dat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9320" y="676440"/>
            <a:ext cx="4560840" cy="720900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uter programing software: Matlab, Python, Ocean Data View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pecialized data softw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- NASA’s Se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cean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- ESA’s BEAM – oc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lor, S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- UNESCO’s Bilko -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cean color, 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- ENVI, ERDAS, ID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ilko screenshot"/>
          <p:cNvPicPr/>
          <p:nvPr/>
        </p:nvPicPr>
        <p:blipFill>
          <a:blip r:embed="rId1"/>
          <a:stretch/>
        </p:blipFill>
        <p:spPr>
          <a:xfrm>
            <a:off x="5029200" y="4873680"/>
            <a:ext cx="266688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6" descr="SeaDAS Screen Shot"/>
          <p:cNvPicPr/>
          <p:nvPr/>
        </p:nvPicPr>
        <p:blipFill>
          <a:blip r:embed="rId2"/>
          <a:stretch/>
        </p:blipFill>
        <p:spPr>
          <a:xfrm>
            <a:off x="5486400" y="3143160"/>
            <a:ext cx="322596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10" descr="http://www.mathworks.com/cmsimages/69791_wl_MATLAB_fig4_wl.jpg"/>
          <p:cNvPicPr/>
          <p:nvPr/>
        </p:nvPicPr>
        <p:blipFill>
          <a:blip r:embed="rId3"/>
          <a:stretch/>
        </p:blipFill>
        <p:spPr>
          <a:xfrm>
            <a:off x="4876920" y="652320"/>
            <a:ext cx="2971800" cy="242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Slide Number Placeholder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AC97-A2D4-409B-9E2C-BC27767B712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93800" y="76320"/>
            <a:ext cx="75452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Remote sensing of the sea: Data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9320" y="762120"/>
            <a:ext cx="9034200" cy="59288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. Sensor calib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Atmospheric co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Positional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4. Oceanographic sampling for “sea tru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. Imag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6. Oceanographic applications of satell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mote s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1933560" cy="190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0" name="Picture 2" descr="http://www.argo.ucsd.edu/operation_park_profile.jpg"/>
          <p:cNvPicPr/>
          <p:nvPr/>
        </p:nvPicPr>
        <p:blipFill>
          <a:blip r:embed="rId2"/>
          <a:stretch/>
        </p:blipFill>
        <p:spPr>
          <a:xfrm>
            <a:off x="6473880" y="1295280"/>
            <a:ext cx="2566800" cy="192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1" name="Picture 4" descr="http://www.pmel.noaa.gov/co2/files/taobuoycropped_med.jpg"/>
          <p:cNvPicPr/>
          <p:nvPr/>
        </p:nvPicPr>
        <p:blipFill>
          <a:blip r:embed="rId3"/>
          <a:stretch/>
        </p:blipFill>
        <p:spPr>
          <a:xfrm>
            <a:off x="7043760" y="3333600"/>
            <a:ext cx="1996920" cy="3305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2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B1D7-24D6-489A-890C-EAB4E403DE1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2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Major image processing softwar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822960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VI/IDL: http://www.rsinc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DAS Imagine: http://www.gis.leica-geosystems.com/Products/Imagin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CI Geomatics: http://www.pci.on.ca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 Mapper: http://www.ermapper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PH: http://imgs.intergraph.com/gimag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RI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gnition: http://www.definiens-imaging.com/ecognition/pro/40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l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yth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sp>
        <p:nvSpPr>
          <p:cNvPr id="98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9A84-52F9-4DB3-B60F-8AC9C40E35E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BCD2-D60C-4CFF-A205-BCEA177C6DB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1920" y="203040"/>
            <a:ext cx="9012240" cy="6377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533520" y="971640"/>
            <a:ext cx="8467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49100"/>
                </a:solidFill>
                <a:uFillTx/>
                <a:latin typeface="Arial"/>
                <a:hlinkClick r:id="rId1"/>
              </a:rPr>
              <a:t>ftp://podaac-ftp.jpl.nasa.gov/allDat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viso.altimetry.fr/en/data/data-acces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49100"/>
                </a:solidFill>
                <a:uFillTx/>
                <a:latin typeface="Arial"/>
                <a:hlinkClick r:id="rId2"/>
              </a:rPr>
              <a:t>http://www.ncdc.noaa.gov/data-access/satellite-data/satellite-data-access-data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49100"/>
                </a:solidFill>
                <a:uFillTx/>
                <a:latin typeface="Arial"/>
                <a:hlinkClick r:id="rId3"/>
              </a:rPr>
              <a:t>http://marine.copernicus.e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R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z.ifremer.fr/institut_eng/Marine-science/French-facilities/Data-Centres/Cori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533520" y="971640"/>
            <a:ext cx="8467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ansa.org.z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g-mes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Universities and 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University of Hawa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pdrc.soest.hawaii.edu/data/data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352680" y="41400"/>
            <a:ext cx="24386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0520" y="568440"/>
            <a:ext cx="9047160" cy="1846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ional institutions that manage satelli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-- National Aeronautics and Space Administration (NAS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rcRect l="9084" t="11988" r="16856" b="5556"/>
          <a:stretch/>
        </p:blipFill>
        <p:spPr>
          <a:xfrm>
            <a:off x="720720" y="1930320"/>
            <a:ext cx="7772400" cy="486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Slide Number Placeholder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2F05-D4F5-4B5D-94F0-1003A999FD3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352680" y="41400"/>
            <a:ext cx="24386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0520" y="568440"/>
            <a:ext cx="9047160" cy="1846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ional institutions that manage satelli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-- National Oceanic and Atmospheric Administration (NOA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rcRect l="9497" t="1670" r="10506" b="5486"/>
          <a:stretch/>
        </p:blipFill>
        <p:spPr>
          <a:xfrm>
            <a:off x="55440" y="1960560"/>
            <a:ext cx="5105520" cy="471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583160" y="3276720"/>
            <a:ext cx="4484520" cy="27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Slide Number Placeholder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C5F8-B4EC-488A-8832-029C3B4471F1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352680" y="41400"/>
            <a:ext cx="24386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0520" y="568440"/>
            <a:ext cx="9047160" cy="1450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ional institutions that manage satelli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-- European Space Agency (ES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11482" t="0" r="18163" b="15439"/>
          <a:stretch/>
        </p:blipFill>
        <p:spPr>
          <a:xfrm>
            <a:off x="1523880" y="1932120"/>
            <a:ext cx="583884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Slide Number Placeholder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AE23-C341-4F13-B3FB-43309A85313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3352680" y="41400"/>
            <a:ext cx="24386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0520" y="568440"/>
            <a:ext cx="9047160" cy="1450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ional institutions that manage satelli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-- South African Space Agency (SANS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rcRect l="3812" t="0" r="7048" b="0"/>
          <a:stretch/>
        </p:blipFill>
        <p:spPr>
          <a:xfrm>
            <a:off x="492120" y="1716120"/>
            <a:ext cx="7966080" cy="508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Slide Number Placeholder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9112-BB44-4F45-A584-3293BDE7F280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352680" y="41400"/>
            <a:ext cx="24386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0520" y="568440"/>
            <a:ext cx="9047160" cy="1846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ional institutions that manage satelli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-- Monitoring for Environment and Security for Africa (MES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0" t="0" r="0" b="13397"/>
          <a:stretch/>
        </p:blipFill>
        <p:spPr>
          <a:xfrm>
            <a:off x="385920" y="1735200"/>
            <a:ext cx="8372160" cy="502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Slide Number Placeholder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DA72-97EA-4D70-AA87-226880F1275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411280" y="20520"/>
            <a:ext cx="42674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tellite Dat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9320" y="706320"/>
            <a:ext cx="9034200" cy="72068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ill Sans MT"/>
              </a:rPr>
              <a:t>Levels of data process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evel 0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aw data received from satellite, in standard binary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form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evel 1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age data in sensor coordinates, contain individual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calibrated channel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evel 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rived oceanic variable, atmospherically corrected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and geolocated, but presented in sensor coordinat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evel 3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posite images of derived ocean variabl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resampled onto standard map base and averaged over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a certain time period (may contain gaps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evel 4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age representing an ocean variable averaged withi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each grid cell as a result of data analysis, e.g., model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CE7F-4D4F-48C8-B3C7-BAA9D64695B3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7:43:02Z</dcterms:created>
  <dc:creator>Office 2004 Test Drive User</dc:creator>
  <dc:description/>
  <dc:language>en-US</dc:language>
  <cp:lastModifiedBy>ebenezer nyadjro</cp:lastModifiedBy>
  <cp:lastPrinted>2015-08-17T22:51:01Z</cp:lastPrinted>
  <dcterms:modified xsi:type="dcterms:W3CDTF">2019-08-07T13:33:55Z</dcterms:modified>
  <cp:revision>443</cp:revision>
  <dc:subject/>
  <dc:title>MSCI/GEOL 579 Air-Sea Interatction</dc:title>
</cp:coreProperties>
</file>